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F7DAA-57CB-4CCC-BE46-32B14385A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029A6-92BC-4791-A6D1-6BB07BA5C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4C61-BC3F-45FB-AA40-916A8A2BA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63AAF-0DC5-49A3-9D77-A9EA320FD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DE7E-CD90-491C-8555-6C2A46A1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73D2-5F51-4B26-89FA-21283BB4A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6F8B-D85B-42EF-B2AA-9018E2FDD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00CE-FDBF-42BF-B0AF-BCEE3C56C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47AD-1070-4AE8-B68A-5F1E91DB6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4BD8-0E20-418C-AEF5-9EBBDD28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F568D-AA95-4D16-A262-AC9E185B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DE77-139E-4A18-88CA-BE5B79FA9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3A0A-A2FD-4776-9B9D-807C23129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ElectoralCollege1872.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3623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uring the Reconstruction Era in 1872 president Ulysses S. Grant, a republican, was finishing up his first term and running again for a chance at a second term in office. Disappointed with the order from Grant for the troops to be sent to oversee the south, and other corrupted decisions Horace Greeley ran against him for president.</a:t>
            </a:r>
            <a:endParaRPr b="0" lang="en-US" sz="2800" spc="-1" strike="noStrike">
              <a:solidFill>
                <a:srgbClr val="000000"/>
              </a:solidFill>
              <a:latin typeface="Arial"/>
            </a:endParaRPr>
          </a:p>
        </p:txBody>
      </p:sp>
      <p:sp>
        <p:nvSpPr>
          <p:cNvPr id="42" name=""/>
          <p:cNvSpPr txBox="1"/>
          <p:nvPr/>
        </p:nvSpPr>
        <p:spPr>
          <a:xfrm>
            <a:off x="1143000" y="304920"/>
            <a:ext cx="6858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lection of 187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2960" y="1674720"/>
            <a:ext cx="731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ley was a liberal republican which was closely in relation to the Democrats. Sadly Greeley was far away from being a genius on political levels. His lack of knowledge cost him the votes and people were disappointed at their likely president. Ulysses S. Grant and his running mate Henry Wilson won the election of 18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1257480" y="533520"/>
            <a:ext cx="6629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Ulysses S. Grant in 1869</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5" name=""/>
          <p:cNvSpPr/>
          <p:nvPr/>
        </p:nvSpPr>
        <p:spPr>
          <a:xfrm>
            <a:off x="647640" y="198108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When Grant was elected president in 1869 he moved some of the troops down south to stop the violence and enforce the law. He tried not to intervene with the people in the south unless necessary. Still the South did not like this and wanted the reconstruction to end. Because of the conflict a new political party arose- Liberal Republic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a:hlinkClick r:id="rId1"/>
          </p:cNvPr>
          <p:cNvPicPr/>
          <p:nvPr/>
        </p:nvPicPr>
        <p:blipFill>
          <a:blip r:embed="rId2"/>
          <a:stretch/>
        </p:blipFill>
        <p:spPr>
          <a:xfrm>
            <a:off x="690480" y="1177920"/>
            <a:ext cx="7763040" cy="450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33:33Z</dcterms:created>
  <dc:creator>CFISD</dc:creator>
  <dc:description/>
  <dc:language>en-US</dc:language>
  <cp:lastModifiedBy>CFISD</cp:lastModifiedBy>
  <dcterms:modified xsi:type="dcterms:W3CDTF">2009-05-06T21:55:33Z</dcterms:modified>
  <cp:revision>2</cp:revision>
  <dc:subject/>
  <dc:title>Slide 1</dc:title>
</cp:coreProperties>
</file>